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7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7F3A-631A-4791-9766-D4F09188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F13-7DF0-4477-9EDA-7C3A771C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013-0CAA-4D96-8BD2-E018A607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2A19-80A0-445C-8276-F5A06381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9984-A543-41F3-BC6D-73C5B542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7EC7-33F7-4CA0-84B8-48DD55BD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D392-00C9-4A8D-A2FF-A59B6A86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969A-B796-4F4F-880A-4DA2981C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E112-14FE-4B4C-8484-2A141C54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97D2-0F09-4B17-A70B-E3A479E2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A1DE-E907-475E-B8B2-E6E0350D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8536-3667-46D7-80BC-24E43F22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76AB-945B-4905-8728-75258EA2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0FE3-ED97-4E13-9343-93E108C2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5584-6578-49D8-810D-F0A2FD1A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C34C-AAF6-4208-AB68-818281EA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B468-F4D8-47C4-934D-EEC2C518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E0D-88A6-485B-B717-F860D3FD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2C0-6353-4547-B838-A2EA1024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2904-8BBE-4C49-8C10-02FED604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6E8-2391-4F56-9217-3C1FF1CC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6643-C9EE-4C5D-933C-C104AA10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CDEE-5040-44E4-9EC3-D34B43FD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3AB-2E66-4E6E-BB54-43C8CA7A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A806-9E89-4E87-AD38-4E2D8342A456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D183-FDD5-4052-93BA-BEE20D7E5AC3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262160" y="1725480"/>
            <a:ext cx="75578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Коллективно Творческое Дело» (КТ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ющее направление – совместная внеурочная деятельность (КТД по Иванов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321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ое план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ая подготов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ый анали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2881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Коллективные 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3059280" y="1519200"/>
            <a:ext cx="2566800" cy="2851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4"/>
          <a:stretch/>
        </p:blipFill>
        <p:spPr>
          <a:xfrm>
            <a:off x="5076720" y="4265640"/>
            <a:ext cx="3399120" cy="254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5807160" y="1454040"/>
            <a:ext cx="3301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Наши дост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55640" y="2276280"/>
            <a:ext cx="770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Фото сертификатов и грам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ительские ч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7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1612800" cy="158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87200" y="2852640"/>
            <a:ext cx="256248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533920" y="1773360"/>
            <a:ext cx="328608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2749680" y="4365720"/>
            <a:ext cx="319068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Calibri"/>
              </a:rPr>
              <a:t>Следующее направление – совместная проектная деятельност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701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Почему я решила взять – это направл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первых, мне самой эта деятельность очень нрав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вторых, это ещё один из действенных путей к сотрудничест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-третьих, это одна из возможностей научиться понимать мир детства и собственного ребёнка</a:t>
            </a: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1689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про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4920" y="1699920"/>
            <a:ext cx="79930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097440" cy="1741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511440" cy="174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60200" y="777960"/>
            <a:ext cx="2251080" cy="3011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3405240" cy="2554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2657520" y="2997360"/>
            <a:ext cx="2860560" cy="2144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6"/>
          <a:stretch/>
        </p:blipFill>
        <p:spPr>
          <a:xfrm>
            <a:off x="-108000" y="3693960"/>
            <a:ext cx="3268800" cy="245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7"/>
          <a:stretch/>
        </p:blipFill>
        <p:spPr>
          <a:xfrm>
            <a:off x="2987640" y="5229360"/>
            <a:ext cx="31701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39880" y="1085760"/>
            <a:ext cx="5689800" cy="4143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4288680" y="748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2"/>
          <p:cNvSpPr/>
          <p:nvPr/>
        </p:nvSpPr>
        <p:spPr>
          <a:xfrm>
            <a:off x="3936960" y="3706920"/>
            <a:ext cx="1295280" cy="70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219560" y="30384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684000" y="19494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ют инициати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3556800" y="71604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5947560" y="176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6943680" y="33195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693000" y="42260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интерес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3714480" y="504504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знате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2805120" y="5730840"/>
            <a:ext cx="612144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6735600" y="3170160"/>
            <a:ext cx="4816800" cy="95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5865840" y="836640"/>
            <a:ext cx="44625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цепт счастья: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560" y="1600200"/>
            <a:ext cx="5257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«Возьмите чашу терпения, влейте в нее полное сердце любви, добавьте две горсти щедрости, посыпьте добротой, плесните немного юмора и добавьте как можно больше веры. Все это хорошо перемешайте. Намажьте на кусок отпущенной вам жизни и предложите каждому, кого встретите на своем пут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Объект 4" descr="http://content.foto.mail.ru/mail/sinkevich58/_blogs/i-3209.jpg"/>
          <p:cNvPicPr/>
          <p:nvPr/>
        </p:nvPicPr>
        <p:blipFill>
          <a:blip r:embed="rId1"/>
          <a:stretch/>
        </p:blipFill>
        <p:spPr>
          <a:xfrm>
            <a:off x="5435640" y="2060640"/>
            <a:ext cx="360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082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ор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е сложное в работе с детьми – это работа с их родителям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ЭТО МОИ Д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640" y="2133720"/>
            <a:ext cx="77040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22360" y="2133720"/>
            <a:ext cx="4626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022560" y="5729400"/>
            <a:ext cx="6121440" cy="93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4816440" cy="95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80040" y="692280"/>
            <a:ext cx="44578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ЕМА ВЗАИМОДЕЙСТВИЯ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2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дительский комитет - эт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6920" y="2276640"/>
            <a:ext cx="7272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ежде всего неравнодушные и ответственные люди, которые помогают классному руководителю сплотить класс и организовать внеклассную деятельн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1879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3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ледующее направление – просвещ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7993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В этом направлении использую индивидуальные консультации, родительские собрания, на которых пусть небольшое количество времени, но рассматриваю вопросы психологии, педагогики, интерактивное общ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9280" y="74520"/>
            <a:ext cx="2089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удь в безопасност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26920" y="2133720"/>
            <a:ext cx="78091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ист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     </a:t>
            </a: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Следующее направление – нестандартные родительские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Вебинары, круглые столы, тренинги, деловые игры, решение жизненных ситуаций, где родители играют роль своих детей и стараются решить проблему с позиции своего ребён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232680" y="4917960"/>
            <a:ext cx="29113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15:48Z</dcterms:created>
  <dc:creator>Павел</dc:creator>
  <dc:description/>
  <dc:language>en-US</dc:language>
  <cp:lastModifiedBy>Пользователь Windows</cp:lastModifiedBy>
  <dcterms:modified xsi:type="dcterms:W3CDTF">2021-03-10T16:52:21Z</dcterms:modified>
  <cp:revision>49</cp:revision>
  <dc:subject/>
  <dc:title>Название  презентации</dc:title>
</cp:coreProperties>
</file>